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6BB-0AEE-402C-9F0A-2E3062AC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34C-8D26-4DF9-BCEF-085A40D0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00E-449D-43EE-AD42-5433EF74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690-D8A3-49FF-9194-BA171225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5AA3-D756-4108-8E77-641572F5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DA0E-8770-4F68-BAD3-5DAB568A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A4D-59C7-4E08-BB3E-1C064B51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7FBA-A467-4839-BD13-F282A85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9CCC-3505-469A-A107-934AA63F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980-DA62-4297-A7F0-2498816F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B815-B675-4C5A-AB0E-529E3516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796-A4F0-4824-B97D-B2231980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3C66-1864-4DEE-9539-9F6B4CE0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7C3F-2FD9-4C06-9C15-D1167A85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240E-EC13-4AAD-800E-2D6FFF5E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A0D1-AE70-4536-A3D9-0B4F6870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C7AA-24B6-40CA-BB31-4F6AA86E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D29-13C9-4CBF-A918-B6DC8D6E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FF9-FB81-4E69-BF2E-57B42D86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144-4FE3-4666-B9A7-F110ED8D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F4F-9009-4018-AC08-FC07B806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48B-68A4-449C-A135-F0792452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C3C-B654-4B94-979A-DB3EF00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5E5-63F9-419E-8D2C-99AC3B7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C261-B8E6-4F72-9ED2-989F2C63AA9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D898-72FF-4FF5-B882-913C89D6DFCD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everywhere you l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ansversal l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5639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ransversal line is a line which intersects two other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12500" b="0"/>
          <a:stretch/>
        </p:blipFill>
        <p:spPr>
          <a:xfrm>
            <a:off x="609480" y="2743200"/>
            <a:ext cx="3667320" cy="3143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12500" b="0"/>
          <a:stretch/>
        </p:blipFill>
        <p:spPr>
          <a:xfrm>
            <a:off x="4952880" y="2743200"/>
            <a:ext cx="3789360" cy="3247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6781680" y="3123720"/>
            <a:ext cx="0" cy="2590920"/>
          </a:xfrm>
          <a:prstGeom prst="line">
            <a:avLst/>
          </a:prstGeom>
          <a:ln w="38160">
            <a:solidFill>
              <a:srgbClr val="d3f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7480" y="3352680"/>
            <a:ext cx="0" cy="2438640"/>
          </a:xfrm>
          <a:prstGeom prst="line">
            <a:avLst/>
          </a:prstGeom>
          <a:ln w="38160">
            <a:solidFill>
              <a:srgbClr val="d3f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019920" y="3124080"/>
            <a:ext cx="1752480" cy="106704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 many shape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 littl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easure of a right angle is 90 deg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188280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1922400" cy="350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5791320" y="4114800"/>
            <a:ext cx="0" cy="91440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5029200"/>
            <a:ext cx="685800" cy="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ute ang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easure of an acute angle is between 0 and 90 deg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2971800" cy="279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2895480" cy="27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410080" y="4419720"/>
            <a:ext cx="1676520" cy="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791320" y="3657240"/>
            <a:ext cx="1295280" cy="762120"/>
          </a:xfrm>
          <a:prstGeom prst="line">
            <a:avLst/>
          </a:prstGeom>
          <a:ln w="3816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tuse ang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easure of an obtuse angle is between 90 and 180 deg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429000" cy="3157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24280" y="3014640"/>
            <a:ext cx="3429000" cy="3157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4723920" y="3200040"/>
            <a:ext cx="304920" cy="198108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181480"/>
            <a:ext cx="1600200" cy="76212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djacent ang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angles are adjac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if they share a common s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2975040"/>
            <a:ext cx="3200400" cy="3120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3276720" cy="3194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6400800" y="3581280"/>
            <a:ext cx="0" cy="9144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867280" y="3962160"/>
            <a:ext cx="533520" cy="53316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43600" y="4495680"/>
            <a:ext cx="457200" cy="6858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angles form a liner pair if they are adjacent and two of the sides point in opposite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4190760" cy="3006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95680" y="3057480"/>
            <a:ext cx="4343400" cy="3114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4648320" y="4038480"/>
            <a:ext cx="2514600" cy="9144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723920" y="3962520"/>
            <a:ext cx="1295640" cy="4572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4724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lines are perpendicular if they form a right an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3528" t="0" r="10522" b="0"/>
          <a:stretch/>
        </p:blipFill>
        <p:spPr>
          <a:xfrm>
            <a:off x="874800" y="2971800"/>
            <a:ext cx="3357360" cy="299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21044" t="0" r="16535" b="0"/>
          <a:stretch/>
        </p:blipFill>
        <p:spPr>
          <a:xfrm>
            <a:off x="4952880" y="2971800"/>
            <a:ext cx="3549600" cy="293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6858000" y="3124080"/>
            <a:ext cx="0" cy="198144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105520"/>
            <a:ext cx="2361960" cy="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lines are parallel if they are in the same plane but do not inters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3276720" cy="327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6324480" y="3733560"/>
            <a:ext cx="0" cy="16002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91320" y="3809880"/>
            <a:ext cx="0" cy="144792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kew li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lines are skew lines if they do not intersect, but are not in the same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12500" b="0"/>
          <a:stretch/>
        </p:blipFill>
        <p:spPr>
          <a:xfrm>
            <a:off x="914400" y="3067200"/>
            <a:ext cx="3533760" cy="3028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12500" b="0"/>
          <a:stretch/>
        </p:blipFill>
        <p:spPr>
          <a:xfrm>
            <a:off x="4876920" y="3133800"/>
            <a:ext cx="3456000" cy="2962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 flipV="1">
            <a:off x="5715000" y="3429000"/>
            <a:ext cx="1752480" cy="99072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191120"/>
            <a:ext cx="838080" cy="228600"/>
          </a:xfrm>
          <a:prstGeom prst="line">
            <a:avLst/>
          </a:prstGeom>
          <a:ln w="57240">
            <a:solidFill>
              <a:srgbClr val="f71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03:45:02Z</dcterms:created>
  <dc:creator>User</dc:creator>
  <dc:description/>
  <dc:language>en-US</dc:language>
  <cp:lastModifiedBy>User</cp:lastModifiedBy>
  <dcterms:modified xsi:type="dcterms:W3CDTF">2008-08-11T04:55:46Z</dcterms:modified>
  <cp:revision>18</cp:revision>
  <dc:subject/>
  <dc:title>Geometry Vocabulary</dc:title>
</cp:coreProperties>
</file>